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30B5-8C31-4163-BA8C-2DB0AA7B4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CD3A-995A-43D9-A793-D229421D8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5690-FA11-4AE0-85E4-370C8B388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4313-E487-4C28-96E5-C88C05213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8723-173F-48E8-BDDE-C10D2DE2E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FB26-58CA-47AB-9793-F2DE26D09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EE71-7BE3-44C8-BD97-A784F2BCF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5B82-7EAF-4320-B902-20AFFCE13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815B-C6D6-4055-948F-ACE232C32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B60B-31ED-43FB-B6CD-CAA736F05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9E15-7DAA-4F9B-AA6D-9956673B9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E757-6616-43CB-90DB-8E979B9D3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D681C-C361-4402-B5E6-F3C2A205707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00:59:46Z</dcterms:created>
  <dc:creator>Administrator</dc:creator>
  <dc:description/>
  <dc:language>en-US</dc:language>
  <cp:lastModifiedBy>Administrator</cp:lastModifiedBy>
  <dcterms:modified xsi:type="dcterms:W3CDTF">2015-04-21T01:00:09Z</dcterms:modified>
  <cp:revision>1</cp:revision>
  <dc:subject/>
  <dc:title/>
</cp:coreProperties>
</file>